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4930-19D7-44C2-9634-03FBCEC8E0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38E2-E314-4992-BA1E-4FB7328A51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6A9-FBEB-45C5-8B9A-BBF35216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D79-C715-4B29-AAE3-CA58EF1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558-663A-490D-8747-23A72A29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0D4-AD8F-43D9-8F31-C276E4FE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3EE-0CFD-4932-AB19-C97E423F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5F6-B9E6-4B31-8EEE-34DB569F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43E-6604-4E46-BECF-A4AEFE66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F60-AB51-424E-A1C3-33F6D07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A18-2528-4167-8C5C-6C70459D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282-915B-4930-BD34-6B19FCB2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3A9-66D9-4E5D-B9D6-86EF7E6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99F-FD10-4275-B9E0-2AB8C3A5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4637-69D5-4023-AA02-C633CF65E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797040" y="609480"/>
            <a:ext cx="780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c4"/>
                </a:solidFill>
                <a:uFillTx/>
                <a:latin typeface="Times New Roman"/>
                <a:ea typeface="Times New Roman"/>
              </a:rPr>
              <a:t>Вычислите площадь поверхности каждого прямоугольного параллелепип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Куб 4"/>
          <p:cNvSpPr/>
          <p:nvPr/>
        </p:nvSpPr>
        <p:spPr>
          <a:xfrm>
            <a:off x="1674720" y="1955880"/>
            <a:ext cx="1846440" cy="280656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Куб 5"/>
          <p:cNvSpPr/>
          <p:nvPr/>
        </p:nvSpPr>
        <p:spPr>
          <a:xfrm>
            <a:off x="5394240" y="3222720"/>
            <a:ext cx="1495440" cy="1539720"/>
          </a:xfrm>
          <a:prstGeom prst="cube">
            <a:avLst>
              <a:gd name="adj" fmla="val 25000"/>
            </a:avLst>
          </a:prstGeom>
          <a:solidFill>
            <a:srgbClr val="ed7d3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747800" y="470844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5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94240" y="47624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4387320" y="386892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695520" y="3068280"/>
            <a:ext cx="12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8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112920" y="44146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97040" y="609480"/>
            <a:ext cx="780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c4"/>
                </a:solidFill>
                <a:uFillTx/>
                <a:latin typeface="Times New Roman"/>
                <a:ea typeface="Times New Roman"/>
              </a:rPr>
              <a:t>Вычислите площадь поверхности каждого прямоугольного параллелепип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Куб 4"/>
          <p:cNvSpPr/>
          <p:nvPr/>
        </p:nvSpPr>
        <p:spPr>
          <a:xfrm>
            <a:off x="1174680" y="2343240"/>
            <a:ext cx="3965760" cy="2435040"/>
          </a:xfrm>
          <a:prstGeom prst="cube">
            <a:avLst>
              <a:gd name="adj" fmla="val 39689"/>
            </a:avLst>
          </a:prstGeom>
          <a:solidFill>
            <a:srgbClr val="5b9b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Куб 5"/>
          <p:cNvSpPr/>
          <p:nvPr/>
        </p:nvSpPr>
        <p:spPr>
          <a:xfrm>
            <a:off x="6326280" y="2851200"/>
            <a:ext cx="1912680" cy="191304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538520" y="408456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5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516720" y="47624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 rot="16200000">
            <a:off x="278640" y="35960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1838160" y="476244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11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0"/>
          <p:cNvSpPr/>
          <p:nvPr/>
        </p:nvSpPr>
        <p:spPr>
          <a:xfrm rot="16200000">
            <a:off x="5312880" y="35960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797040" y="609480"/>
            <a:ext cx="780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c4"/>
                </a:solidFill>
                <a:uFillTx/>
                <a:latin typeface="Times New Roman"/>
                <a:ea typeface="Times New Roman"/>
              </a:rPr>
              <a:t>Вычислите и расположите трёхзначные ответы в порядке возрас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extBox 4" descr=""/>
          <p:cNvPicPr/>
          <p:nvPr/>
        </p:nvPicPr>
        <p:blipFill>
          <a:blip r:embed="rId1"/>
          <a:stretch/>
        </p:blipFill>
        <p:spPr>
          <a:xfrm>
            <a:off x="1085760" y="2011320"/>
            <a:ext cx="7272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18:02Z</dcterms:created>
  <dc:creator>Anatol</dc:creator>
  <dc:description/>
  <dc:language>en-US</dc:language>
  <cp:lastModifiedBy>Пользователь Windows</cp:lastModifiedBy>
  <dcterms:modified xsi:type="dcterms:W3CDTF">2021-02-28T18:20:48Z</dcterms:modified>
  <cp:revision>7</cp:revision>
  <dc:subject/>
  <dc:title>Презентация PowerPoint</dc:title>
</cp:coreProperties>
</file>